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9.png" ContentType="image/png"/>
  <Override PartName="/ppt/media/image17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E73D-EB54-434E-A85A-5147C05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D86D-EFB0-4EF1-9353-97EA06D4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2C91-3B3E-400C-8D2E-58D59A7A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DDC-16AC-4361-8CAD-651CA5C2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0BBF-3355-4791-82B8-3ADA34CA6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AC5-3A56-4326-B6A8-F9835330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67D-D022-465B-8ED1-1FA43D47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12C-825D-4867-A844-0FA3A85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D4C-F09D-4A13-BFC1-6735AED9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146-5E7F-4F98-9225-7515C5C3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1723-8644-49CE-BDF3-7A7B54FD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AB4-F083-4837-B1BF-19F0A2A5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D7F0-4CA1-437B-8AF7-A6DA506BA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omepage.ntlworld.com/vivian.c/SLA/index.htm" TargetMode="External"/><Relationship Id="rId2" Type="http://schemas.openxmlformats.org/officeDocument/2006/relationships/hyperlink" Target="http://earthrenewal.org/secondlang.htm" TargetMode="External"/><Relationship Id="rId3" Type="http://schemas.openxmlformats.org/officeDocument/2006/relationships/hyperlink" Target="http://www.pps.k12.or.us/curriculum/PDFs/ESL_Modifications.pdf" TargetMode="External"/><Relationship Id="rId4" Type="http://schemas.openxmlformats.org/officeDocument/2006/relationships/hyperlink" Target="http://www.sdkrashen.com/Principles_and_Practice/Principles_and_Practice.pdf" TargetMode="External"/><Relationship Id="rId5" Type="http://schemas.openxmlformats.org/officeDocument/2006/relationships/hyperlink" Target="https://www.azbn.gov/documents/news/2010/educators-retreat/Lavache.2nd%20Language%20Acquisition.pdf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2.uni-wuppertal.de/FB4/anglistik/multhaup/methods_elt/pop_ups/universal_grammar_albert.htm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Approaches to Second Language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is designed to give a brief overview of formal approaches to SLA, as well as contextual factors that affect SLA and tips for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ci St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Murray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ci.stinson@mnp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446246[1]"/>
          <p:cNvPicPr/>
          <p:nvPr/>
        </p:nvPicPr>
        <p:blipFill>
          <a:blip r:embed="rId1"/>
          <a:stretch/>
        </p:blipFill>
        <p:spPr>
          <a:xfrm>
            <a:off x="7391520" y="1676520"/>
            <a:ext cx="14126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L Learning in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Stinson’s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Mrs. Stinson’s Classroom we prefer the Interactionist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feedback, both positive and negative in a loving and respectfu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conversations, both academic and social, where we express ourselves in a respectful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ork in groups with Mrs. Stinson as the facilitator, providing input and scaffolding for 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MC900231633[1]"/>
          <p:cNvPicPr/>
          <p:nvPr/>
        </p:nvPicPr>
        <p:blipFill>
          <a:blip r:embed="rId1"/>
          <a:stretch/>
        </p:blipFill>
        <p:spPr>
          <a:xfrm>
            <a:off x="6477120" y="304920"/>
            <a:ext cx="25146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n Second Language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SLA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page.ntlworld.com/vivian.c/SL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ssary of terms on first and second language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arthrenewal.org/secondlang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L/Bilingual Resource Guide for Mainstream Teac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.k12.or.us/curriculum/PDFs/ESL_Modification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les and Practice in Second Language Acquisition by Stephen D Krashen – online book which is full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dkrashen.com/Principles_and_Practice/Principles_and_Practice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Teaching Practices within ESL Environments: Understanding Second Language Acquisition Concepts – a PowerPoint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azbn.gov/documents/news/2010/educators-retreat/Lavache.2nd%20Language%20Acquisition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CAS7L3M2"/>
          <p:cNvPicPr/>
          <p:nvPr/>
        </p:nvPicPr>
        <p:blipFill>
          <a:blip r:embed="rId6"/>
          <a:stretch/>
        </p:blipFill>
        <p:spPr>
          <a:xfrm>
            <a:off x="6858000" y="91440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bert, M. (n.d.). Universal Grammar and Linguistics. Z Mag, Retrieved from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2.uni-wuppertal.de/FB4/anglistik/multhaup/methods_elt/pop_ups/universal_grammar_alber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and Language Development. PowerPoint. Retrieved from: http://www.unco.edu/doit/model%20courses/edi%20111powerpoint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irezen, M. (1988). Behaviorist Theory and Language Learning. Retrieved from:  http://www.efdergi.hacettepe.edu.tr/19883MEHMET%20DEM%C4%B0REZ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amilla, K. &amp; Grassi, E. (2000). A Brief Description of Second Language Acquisition. Professional Development Resource Series, “Second Language Acquisition”, BUENO Center, University of Colorado, Boulder. Retrieved from: http://www.wce.wwu.edu/Resources/CIRCLE/Articles/SLA%20Escamilla+Grass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am Chomsky. Gale Encyclopedia of Psychology. 2nd Ed. (2001). Retrieved from: http://www.chomsky.info/bios/2001----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ories of Second Language Acquisition. (n.d.) Retrieved from: http://www2.uni-wuppertal.de/FB4/anglistik/multhaup/methods_elt/6b_theories_of_sl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ci Sti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: sirci.stinson@mnp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learning-resources-150x150"/>
          <p:cNvPicPr/>
          <p:nvPr/>
        </p:nvPicPr>
        <p:blipFill>
          <a:blip r:embed="rId2"/>
          <a:stretch/>
        </p:blipFill>
        <p:spPr>
          <a:xfrm>
            <a:off x="6553080" y="15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ree-burma-gif"/>
          <p:cNvPicPr/>
          <p:nvPr/>
        </p:nvPicPr>
        <p:blipFill>
          <a:blip r:embed="rId3"/>
          <a:stretch/>
        </p:blipFill>
        <p:spPr>
          <a:xfrm>
            <a:off x="3581280" y="5029200"/>
            <a:ext cx="54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n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Behaviorism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tates that children learn language by imi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 or a lack of stimulus prompts learners to imitate what they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 negative responses will then prompt learners to keep on imitating or refine what they are imitating as their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inner"/>
          <p:cNvPicPr/>
          <p:nvPr/>
        </p:nvPicPr>
        <p:blipFill>
          <a:blip r:embed="rId1"/>
          <a:stretch/>
        </p:blipFill>
        <p:spPr>
          <a:xfrm>
            <a:off x="7238880" y="228600"/>
            <a:ext cx="111924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itation"/>
          <p:cNvPicPr/>
          <p:nvPr/>
        </p:nvPicPr>
        <p:blipFill>
          <a:blip r:embed="rId2"/>
          <a:stretch/>
        </p:blipFill>
        <p:spPr>
          <a:xfrm>
            <a:off x="5916600" y="4495680"/>
            <a:ext cx="1633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msky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D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art of the nativist perspect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tates that learners have a language acquisition device (L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is a brain structure that consists of neural w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theory states that learners have an innate ability to know the structure and rules of a language, and this facilitates language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theory challenged Skinner and the behaviorism perspecti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also led to a reexamination of the role of transfer in second language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homsky"/>
          <p:cNvPicPr/>
          <p:nvPr/>
        </p:nvPicPr>
        <p:blipFill>
          <a:blip r:embed="rId1"/>
          <a:stretch/>
        </p:blipFill>
        <p:spPr>
          <a:xfrm>
            <a:off x="6553080" y="152280"/>
            <a:ext cx="15652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glxasset[1]"/>
          <p:cNvPicPr/>
          <p:nvPr/>
        </p:nvPicPr>
        <p:blipFill>
          <a:blip r:embed="rId2"/>
          <a:stretch/>
        </p:blipFill>
        <p:spPr>
          <a:xfrm>
            <a:off x="7848720" y="2895480"/>
            <a:ext cx="822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a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s not learned like other disciplines, but is acquired through an innate abil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atism lead to Universal Gram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Grammar is the innate knowledge of the rules and principles that are found in every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Grammar may not be available for second language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nnate"/>
          <p:cNvPicPr/>
          <p:nvPr/>
        </p:nvPicPr>
        <p:blipFill>
          <a:blip r:embed="rId1"/>
          <a:stretch/>
        </p:blipFill>
        <p:spPr>
          <a:xfrm>
            <a:off x="6324480" y="228600"/>
            <a:ext cx="11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nnate 3"/>
          <p:cNvPicPr/>
          <p:nvPr/>
        </p:nvPicPr>
        <p:blipFill>
          <a:blip r:embed="rId2"/>
          <a:stretch/>
        </p:blipFill>
        <p:spPr>
          <a:xfrm>
            <a:off x="3581280" y="4800600"/>
            <a:ext cx="2133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exists between the nature versus nurture approa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– three main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D21298_"/>
          <p:cNvPicPr/>
          <p:nvPr/>
        </p:nvPicPr>
        <p:blipFill>
          <a:blip r:embed="rId1"/>
          <a:stretch/>
        </p:blipFill>
        <p:spPr>
          <a:xfrm>
            <a:off x="1752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BD21298_"/>
          <p:cNvPicPr/>
          <p:nvPr/>
        </p:nvPicPr>
        <p:blipFill>
          <a:blip r:embed="rId2"/>
          <a:stretch/>
        </p:blipFill>
        <p:spPr>
          <a:xfrm>
            <a:off x="17524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D21298_"/>
          <p:cNvPicPr/>
          <p:nvPr/>
        </p:nvPicPr>
        <p:blipFill>
          <a:blip r:embed="rId3"/>
          <a:stretch/>
        </p:blipFill>
        <p:spPr>
          <a:xfrm>
            <a:off x="1752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133720" y="30481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get’s Developmental Cognitiv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gotsky’s Social Interactio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44560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focuses on social interactions between L2 learners and the target language spea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nteractions give the L2 learners feedback on both correct and incorrect language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38-talking"/>
          <p:cNvPicPr/>
          <p:nvPr/>
        </p:nvPicPr>
        <p:blipFill>
          <a:blip r:embed="rId4"/>
          <a:stretch/>
        </p:blipFill>
        <p:spPr>
          <a:xfrm>
            <a:off x="7010280" y="2209680"/>
            <a:ext cx="13557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Period Hypothesis – Age and The L2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acquisition only takes place between the ages of 2 and 12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 part of the brain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age 2 the brain in not rea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age of 12 the brain looses plast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Period Hypothesis limits both native language learning and second language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141317[1]"/>
          <p:cNvPicPr/>
          <p:nvPr/>
        </p:nvPicPr>
        <p:blipFill>
          <a:blip r:embed="rId1"/>
          <a:stretch/>
        </p:blipFill>
        <p:spPr>
          <a:xfrm>
            <a:off x="6705720" y="914400"/>
            <a:ext cx="957240" cy="108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vl0008b009"/>
          <p:cNvPicPr/>
          <p:nvPr/>
        </p:nvPicPr>
        <p:blipFill>
          <a:blip r:embed="rId2"/>
          <a:stretch/>
        </p:blipFill>
        <p:spPr>
          <a:xfrm>
            <a:off x="6934320" y="2971800"/>
            <a:ext cx="15238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ritical Factors That Affect L2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5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0" name="_s1028"/>
            <p:cNvCxnSpPr>
              <a:stCxn id="71" idx="0"/>
              <a:endCxn id="72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29"/>
            <p:cNvCxnSpPr>
              <a:stCxn id="74" idx="0"/>
              <a:endCxn id="72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0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80200" y="2422800"/>
              <a:ext cx="905400" cy="287820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1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qui – 3 categ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t affect seco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guage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anguage dist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nowledge of L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1 proficienc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tivation for L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pport from hom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lassroom divers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4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earning Proces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yle of learn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ultural of learn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4" descr="CACDBXJ4"/>
          <p:cNvPicPr/>
          <p:nvPr/>
        </p:nvPicPr>
        <p:blipFill>
          <a:blip r:embed="rId1"/>
          <a:stretch/>
        </p:blipFill>
        <p:spPr>
          <a:xfrm>
            <a:off x="6172200" y="1600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foremost get to know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lessons with social interactions in mind to encourage linguistic inte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udents motiv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the students’ cultures – use books etc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important to the students – use real life sit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glxasset[1]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136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MM900285289[2]"/>
          <p:cNvPicPr/>
          <p:nvPr/>
        </p:nvPicPr>
        <p:blipFill>
          <a:blip r:embed="rId2"/>
          <a:stretch/>
        </p:blipFill>
        <p:spPr>
          <a:xfrm>
            <a:off x="6934320" y="152280"/>
            <a:ext cx="1490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520" y="156960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L Students at McMurray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is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any opportunities for academic and social interaction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operative learning whenever possible and use heterogene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ntinued learning of 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ontinuous feedback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murray"/>
          <p:cNvPicPr/>
          <p:nvPr/>
        </p:nvPicPr>
        <p:blipFill>
          <a:blip r:embed="rId1"/>
          <a:stretch/>
        </p:blipFill>
        <p:spPr>
          <a:xfrm>
            <a:off x="1066680" y="228600"/>
            <a:ext cx="7000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1:02:31Z</dcterms:created>
  <dc:creator>sstinson1</dc:creator>
  <dc:description/>
  <dc:language>en-US</dc:language>
  <cp:lastModifiedBy>Sirci Stinson</cp:lastModifiedBy>
  <dcterms:modified xsi:type="dcterms:W3CDTF">2011-05-25T02:14:03Z</dcterms:modified>
  <cp:revision>10</cp:revision>
  <dc:subject/>
  <dc:title>Formal Approaches to Second Language Acquisition</dc:title>
</cp:coreProperties>
</file>